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31E-7655-4F72-9CB9-92CC4A47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76C-2EDC-4987-ADAC-589B15F9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194-F47B-4096-9B7B-5600FED0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3A6-0E5E-44D8-8F7E-1D323E11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872-A877-4A66-AC90-CF4FA6FB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EEA-3020-44D8-9956-C0EC8151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318-5F17-4DC4-810A-C9BA637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788-27C4-4D10-B5F5-3D27A75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11E-7349-4AD4-8609-02ACFC3C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1D0-68CC-47DF-A14B-0ACF7C6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508-4517-494D-A356-DB20902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EED-03D7-4562-BC30-E20553E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DFBB-3E33-4633-80B2-DA0936BE2F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39040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4:44Z</dcterms:modified>
  <cp:revision>745</cp:revision>
  <dc:subject/>
  <dc:title>Diapositiva 1</dc:title>
</cp:coreProperties>
</file>